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6991E-7849-4F1B-8E52-CDB318EDBA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EC2A9-6A57-41BA-A739-9189B5AAD9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9590-F392-40D5-A7C4-2440562D4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1C978-432F-4423-9D5D-6CB00EDA9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CCF-DFA6-4912-B281-2C358F419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FE8C9-5151-42EA-A754-3AAC36409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6F7-45C3-4A16-8AC1-59559ACC3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DF6AF-8EE1-430F-A4AC-61859FBC5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495-FC36-4DEB-A3AB-107C7EE65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77024-9BAB-4BC0-B9DC-6C3639EBA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426-B07D-4016-84C6-4F6D88CD5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2E0AC-C95E-4980-8E16-CB4F6024D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A81E-8784-4F27-BDB9-B7EEAE510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E23-5E44-462F-A549-7DF3C3F9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BF2-1091-408B-AD01-198AB63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961-8937-4765-9F46-2CE940F5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4D9-AF44-4B7E-AD02-3CABFA91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20F-775D-44EC-A994-B3C2833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C94-C17A-4C69-9761-89AD34C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FE1-C80E-4ACC-A73E-DD6A738E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630-388D-4B5D-8FE2-F1A8011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126-1683-4AA5-A2B0-534D4D3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8E2-832D-41F9-B5D6-AA344DC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B47-91B6-439E-A30D-D825FAB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8BE-E483-40B2-A10B-5B902AB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20339-2370-4D53-81A8-D756FA7A615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and Conceptual Learn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-218 Pollock, Jackson.jpg"/>
          <p:cNvPicPr/>
          <p:nvPr/>
        </p:nvPicPr>
        <p:blipFill>
          <a:blip r:embed="rId1"/>
          <a:stretch/>
        </p:blipFill>
        <p:spPr>
          <a:xfrm>
            <a:off x="609480" y="762120"/>
            <a:ext cx="790128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Jackson Pollack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entury Gothic"/>
              </a:rPr>
              <a:t>Jackson Pollock 1950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6" name="Picture 2" descr="8-217 Pollock, Jackson.jpg"/>
          <p:cNvPicPr/>
          <p:nvPr/>
        </p:nvPicPr>
        <p:blipFill>
          <a:blip r:embed="rId1"/>
          <a:stretch/>
        </p:blipFill>
        <p:spPr>
          <a:xfrm>
            <a:off x="2438280" y="685800"/>
            <a:ext cx="426420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st-Modern Art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bel” for art made from the 1960’s to the 199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or field, Neo-dada, Op Art, Performanc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arhol, Licthe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4-88 Gomez-Pena.jpg"/>
          <p:cNvPicPr/>
          <p:nvPr/>
        </p:nvPicPr>
        <p:blipFill>
          <a:blip r:embed="rId1"/>
          <a:stretch/>
        </p:blipFill>
        <p:spPr>
          <a:xfrm>
            <a:off x="685800" y="8380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ebf1"/>
                </a:solidFill>
                <a:latin typeface="CourierPS"/>
              </a:rPr>
              <a:t>Guillermo Gomez Pena/Coco Fusco 1990’s</a:t>
            </a:r>
            <a:endParaRPr b="0" lang="en-US" sz="2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ourierPS"/>
              </a:rPr>
              <a:t>Felix Gonzalez-Torres – 1990’s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Picture 3" descr="Cuba_Gonzalez_Torres, Felix_untitled.Portrait of Roses_1991, 175 lbs..jpg"/>
          <p:cNvPicPr/>
          <p:nvPr/>
        </p:nvPicPr>
        <p:blipFill>
          <a:blip r:embed="rId1"/>
          <a:stretch/>
        </p:blipFill>
        <p:spPr>
          <a:xfrm>
            <a:off x="533520" y="762120"/>
            <a:ext cx="831672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st-post modern Art…..Contemporary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e artists we explored to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e artists and their work featured in your learning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f1375"/>
                </a:solidFill>
                <a:latin typeface="Arial"/>
              </a:rPr>
              <a:t>Parameters of Contemporary Ar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e curtain, the membrane, between artist and viewer is remo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Audiences leave with an essence or a con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ontemporary Art is about ideas, about the space between the artist and viewer, about how we engage.  There is a non-verbal awareness.”  Linny Frick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ocess oriented. Engaged i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Works outside the mar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t is visceral and tex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The experience </a:t>
            </a:r>
            <a:r>
              <a:rPr b="0" i="1" lang="en-US" sz="3200" spc="-1" strike="noStrike">
                <a:solidFill>
                  <a:srgbClr val="ee366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 the object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ee366f"/>
                </a:solidFill>
                <a:latin typeface="Arial"/>
              </a:rPr>
              <a:t>( it’s about you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Formal Elements of Ar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Example of Learning Modu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-Ho Su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entral Id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ffcc99"/>
                </a:solidFill>
                <a:latin typeface="Arial"/>
              </a:rPr>
              <a:t>Contemporary Art can serve as an engaging provocation for conceptual learning.</a:t>
            </a: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Time for explor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nd your unit on the serv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e366f"/>
                </a:solidFill>
                <a:latin typeface="Arial"/>
              </a:rPr>
              <a:t>Socratic Semin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scuss the following stateme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21</a:t>
            </a:r>
            <a:r>
              <a:rPr b="0" lang="en-US" sz="2800" spc="-1" strike="noStrike" baseline="33000">
                <a:solidFill>
                  <a:srgbClr val="ffcc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 century art, the experience is literally the obj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e366f"/>
                </a:solidFill>
                <a:latin typeface="Arial"/>
              </a:rPr>
              <a:t>Snowball Fight</a:t>
            </a:r>
            <a:br>
              <a:rPr sz="4000"/>
            </a:br>
            <a:r>
              <a:rPr b="0" lang="en-US" sz="2800" spc="-1" strike="noStrike">
                <a:solidFill>
                  <a:srgbClr val="ee366f"/>
                </a:solidFill>
                <a:latin typeface="Arial"/>
              </a:rPr>
              <a:t>(and remember…the experience is the object)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ke a moment to reflect on any new awareness you arrived a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n your piece of paper complete the following statement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 used to think ………….. but now I know……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Lines of Inqui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contemporary art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The parameters of contemporary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The formal elements of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An exploration of curriculum specific learning mo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Experi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We will now watch a segment of Art 21, a PBS show, featuring the work of Do-Ho Suh.  As you watch, take note of your reactions and your emotions.  Be prepared to share what the pieces made you think about and how they made you fe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Experi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n partners explore the piece of art presented to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a minute or two to compose your initial response.  Respond at an emotional level.  What/how is the piece making you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with your partn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s a group, postulate the artist’s possible mea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ung Li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f1375"/>
                </a:solidFill>
                <a:latin typeface="Arial"/>
              </a:rPr>
              <a:t>History of Contemporary Art:</a:t>
            </a: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A paradox? Yes indeed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Modern Art</a:t>
            </a:r>
            <a:br>
              <a:rPr sz="3600"/>
            </a:br>
            <a:r>
              <a:rPr b="0" lang="en-US" sz="1800" spc="-1" strike="noStrike">
                <a:solidFill>
                  <a:srgbClr val="ffcc00"/>
                </a:solidFill>
                <a:latin typeface="Century Gothic"/>
              </a:rPr>
              <a:t>Splitting the plane / Exploding the plane / Exiting the plan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1895 – 195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Cezanne to Kap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entury Gothic"/>
              </a:rPr>
              <a:t>Basket of Apples 1895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Content Placeholder 6" descr="1Paul Cezanne 1895, Basket of Appl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678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440" y="2362320"/>
            <a:ext cx="2255760" cy="3733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1828800"/>
            <a:ext cx="28958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17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ude Descending a Stairc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6324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ree Music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blo Picas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6576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Horse in Motio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ward Muybri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4419720"/>
            <a:ext cx="190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isioni Simultane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berto Bocc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Duchamp</a:t>
            </a:r>
            <a:br>
              <a:rPr sz="3200"/>
            </a:b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1917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1" name="Picture 3" descr="3. Fountain, 1917, Duchamp, R.jpg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213372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ountai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. Mut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rmut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or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05:31Z</dcterms:created>
  <dc:creator>Mike Croak</dc:creator>
  <dc:description/>
  <dc:language>en-US</dc:language>
  <cp:lastModifiedBy>Mike Croak</cp:lastModifiedBy>
  <dcterms:modified xsi:type="dcterms:W3CDTF">2009-11-30T05:31:28Z</dcterms:modified>
  <cp:revision>6</cp:revision>
  <dc:subject/>
  <dc:title>Contemporary Art and Conceptual Learning</dc:title>
</cp:coreProperties>
</file>